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7E8-6A1B-4D43-B7A4-F2DC44D5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649-9D97-4537-B45C-948F88C8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B5E-39CA-4AC2-8735-19CC52D4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409-4A44-498C-A6B2-428BE5E2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211-EC01-4597-AF7B-D2004147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22D-0C45-45C4-8755-293B18C7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5F9-B771-42E8-B0A5-FF7D9493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C5D-1719-43CD-8BA9-3889F5F0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A96-5B85-4DE9-83AB-374538F9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E77-AFAA-49AA-9D73-C79DA555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31A-940C-4791-85D4-5A1B04DD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CD8-DB53-45CA-A88F-83DD3E4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3A0F-75C1-4D5E-B52E-E1E82AC4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omic mass for Argon ( 39.9) is situated underneath the Chemical symbol (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6:10:17Z</dcterms:created>
  <dc:creator>Nael Nmair</dc:creator>
  <dc:description/>
  <dc:language>en-US</dc:language>
  <cp:lastModifiedBy>Nael Nmair</cp:lastModifiedBy>
  <dcterms:modified xsi:type="dcterms:W3CDTF">2008-02-24T16:10:23Z</dcterms:modified>
  <cp:revision>1</cp:revision>
  <dc:subject/>
  <dc:title>Slide 1</dc:title>
</cp:coreProperties>
</file>